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D39-DFA8-4618-A6E0-6D733BBA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C5CC-845B-44F2-8F8F-E7FA643FB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A56-C789-4CB2-B1CF-1752139A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DC6-A0A9-48E8-9F72-97A6756D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C6EC-546D-4A95-991F-FE2E0CE9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FF81-3A52-4084-91EF-749269CA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5C2-7908-4B8E-A245-65F4B796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A43A-A92F-47AD-B044-AE05DA89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_x0017_UNFPA Logo 2/BANNER.tif                                        00059BBF_x0006_Muschi                         ABA78158: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5029200"/>
            <a:ext cx="57909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ffffff"/>
                </a:solidFill>
                <a:latin typeface="UNFPA-Semibold"/>
              </a:rPr>
              <a:t>Donor Coordination Forum</a:t>
            </a:r>
            <a:br>
              <a:rPr sz="3600"/>
            </a:br>
            <a:r>
              <a:rPr b="0" lang="bs-BA" sz="2400" spc="-1" strike="noStrike">
                <a:solidFill>
                  <a:srgbClr val="ffffff"/>
                </a:solidFill>
                <a:latin typeface="UNFPA-Semibold"/>
              </a:rPr>
              <a:t>Sarajevo, 30th June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_x0019_UNFPA-Logo_Intro-page.gif                                      00059BBF_x0006_Muschi                         ABA78158:"/>
          <p:cNvPicPr/>
          <p:nvPr/>
        </p:nvPicPr>
        <p:blipFill>
          <a:blip r:embed="rId1"/>
          <a:stretch/>
        </p:blipFill>
        <p:spPr>
          <a:xfrm>
            <a:off x="2146320" y="765000"/>
            <a:ext cx="518148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133720" y="3141720"/>
            <a:ext cx="55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ing a world where every pregnancy is wanted, every childbirth is safe and every young person's potential is fulfi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2276640"/>
            <a:ext cx="741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1360" y="54936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UNFPA-Semibold"/>
              </a:rPr>
              <a:t>Mandate and 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98900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PD 1994,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SP 2014-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CPD 2015-20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, advocacy and capacity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788000" y="2451240"/>
            <a:ext cx="3951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UNFPA Work in 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98900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P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015-2019 outlines 4 pillars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R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BV/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ontext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Bi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 fertility rate and use of modern contracep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Youth compris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¼ of population, but unemployment is 6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prevalence rate of GBV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woman is a victim of some form of violence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). Legacy of 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e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population (by 2050, 40% over 65 in B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1 S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4000" y="1773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RH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s and quality improvement in matern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provision on family planning, maternal health and cervical 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ng Minimum Initial Service Package to address the need of women, youth and elderly in emergency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2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916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 policies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isadvantaged group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informal sexuality education through youth peer outreac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omprehensive sexuality education and advocacy for inclusion in formal educational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early marriages, including teen pregn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3 GBV/CR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1916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focus on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RS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health sector capacity building and referral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, addressing stig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UN JP –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, Canada, UN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gender-transformative approaches and strengthening the engagement of men and boys on gender equality and gender-based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of SRHR reporting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4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8360" y="191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apacities for population data collection, analysis, dissemination and use for informed policy development 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geing policies in line with the Madrid International Plan of Action 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4:10:48Z</dcterms:created>
  <dc:creator>Jurgen</dc:creator>
  <dc:description/>
  <dc:language>en-US</dc:language>
  <cp:lastModifiedBy>Gabrijela Jurela</cp:lastModifiedBy>
  <dcterms:modified xsi:type="dcterms:W3CDTF">2016-06-28T15:43:38Z</dcterms:modified>
  <cp:revision>195</cp:revision>
  <dc:subject/>
  <dc:title>No Slide Title</dc:title>
</cp:coreProperties>
</file>